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B34-B5C4-4812-AC2A-9C8FEDB3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7AA-3CB7-4DEB-8965-DB469F90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22F-BFA0-4179-B6F9-8CD657BA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3F5-A95F-4622-9ACE-2DA8436D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C9FC-CA58-4A73-A5EF-476CFEBD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4AB-32CD-4BDE-B4AE-BA1414A0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07CF-D474-4D5A-B6DC-313A09BF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2AA0-D15F-48D2-9BF2-BB1C4764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87B6-41AF-4A16-A2D5-9F65202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F176-690D-47BC-87DA-F231D598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B0EC-0DB1-4157-B894-42143E69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11F-8DD7-4875-8E74-969F0B2F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A934-162A-414B-BEFF-95F724B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574F-BE52-41BF-B62B-699AD45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F767-2F6B-4B16-955B-8B308C2B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42B1-CF5E-451B-B26C-3EBE7755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8D81-4EF9-4014-9BF1-4A85F82D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B5D-F73F-4A14-AC55-35FD7BD1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B45-C4B3-4061-B4EF-C162F56A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47E-A823-451A-ADAB-ED2B4188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17B-2D32-4A77-B65A-71FDF756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C95-4609-44BE-B7BB-E1D2FC43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B6E-62D0-4014-942B-4550BE4E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E2A-CB46-446D-94F4-01933F7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51E5-3AB7-4631-BB51-55C0CC11E2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B9F3-22E2-4EF9-9823-CC30D2BAF3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7.06-7.07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rchitectural Terms and Feature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erior Elev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awings that show the </a:t>
            </a:r>
            <a:r>
              <a:rPr b="1" lang="en-US" sz="4400" spc="-1" strike="noStrike" u="sng">
                <a:solidFill>
                  <a:srgbClr val="ff6699"/>
                </a:solidFill>
                <a:uFillTx/>
                <a:latin typeface="Arial"/>
              </a:rPr>
              <a:t>OUTSIDE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structure. Usually show all 4 sides but only 1 side at a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erior Elev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ior Elev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ows the </a:t>
            </a:r>
            <a:r>
              <a:rPr b="1" lang="en-US" sz="4400" spc="-1" strike="noStrike" u="sng">
                <a:solidFill>
                  <a:srgbClr val="ff6699"/>
                </a:solidFill>
                <a:uFillTx/>
                <a:latin typeface="Arial"/>
              </a:rPr>
              <a:t>interio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 room as seen from some point and looking at a specific 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92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ailed 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enlargement view of some part of the construction….kitchen cabinet, fireplace, window, et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ailed Ele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Interior Elevation"/>
          <p:cNvPicPr/>
          <p:nvPr/>
        </p:nvPicPr>
        <p:blipFill>
          <a:blip r:embed="rId1"/>
          <a:stretch/>
        </p:blipFill>
        <p:spPr>
          <a:xfrm>
            <a:off x="457200" y="1676520"/>
            <a:ext cx="3922560" cy="3962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Detail view of window"/>
          <p:cNvPicPr/>
          <p:nvPr/>
        </p:nvPicPr>
        <p:blipFill>
          <a:blip r:embed="rId2"/>
          <a:stretch/>
        </p:blipFill>
        <p:spPr>
          <a:xfrm>
            <a:off x="4876920" y="1523880"/>
            <a:ext cx="33336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tion 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ew that is taken from an imaginary cut through a part of the structure such as a 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8120" y="762120"/>
            <a:ext cx="3551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DD- Computer aided drafting and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vantages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Can do drawings very quick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Can make changes quick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. ALWAYS accurate with measur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Expensive softwa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Must know computer syste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nder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rawing done in color or i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mpla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utout pattern of furniture, appliances and fixtures scaled to actual dimen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Drawing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in information about size, shape and location of all parts of the h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 universal language of lines, symbols, views and notes to convey ideas about the structur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aw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rmally drawn at ¼” = 1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is also known as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nt or Bluepri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py of a technical drawing showing how the whole structure will be buil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several sections such 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9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9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9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gh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9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uepri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blue prints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 the plumbing, electrical, fixtures, windows, doors, and other common symbol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so show the direction and types of doors and wind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Architectural Symbols"/>
          <p:cNvPicPr/>
          <p:nvPr/>
        </p:nvPicPr>
        <p:blipFill>
          <a:blip r:embed="rId1"/>
          <a:stretch/>
        </p:blipFill>
        <p:spPr>
          <a:xfrm>
            <a:off x="1981080" y="533520"/>
            <a:ext cx="47628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3151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7:02:01Z</dcterms:created>
  <dc:creator>s.brooks</dc:creator>
  <dc:description/>
  <dc:language>en-US</dc:language>
  <cp:lastModifiedBy>s.brooks</cp:lastModifiedBy>
  <dcterms:modified xsi:type="dcterms:W3CDTF">2009-11-06T13:45:40Z</dcterms:modified>
  <cp:revision>4</cp:revision>
  <dc:subject/>
  <dc:title>7.06-7.07  Architectural Terms and Features</dc:title>
</cp:coreProperties>
</file>